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56C-DAAD-4C56-9495-9918443C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D6E-9F81-41C4-B3E3-AE30996C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797-FBC9-4659-B144-52305486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7CA-103D-44A5-9121-8C534953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9F1-EB7F-47EC-9812-425250E0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206-3286-4CEB-9421-3F62F82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7D5-82B9-4BE6-B6EF-4012D0E4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B7B-2107-4B67-96D7-07BA77BE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FB9-5417-4BCD-B78D-BF10F2D7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B3D-D249-4142-97ED-7802E611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494-F3EB-4387-AB80-F2466D4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32E-6F28-4A11-BCE9-F459303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7FD0-384D-4AE6-8B04-22FE6F5EE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228600"/>
            <a:ext cx="5105160" cy="6248160"/>
            <a:chOff x="457200" y="228600"/>
            <a:chExt cx="5105160" cy="6248160"/>
          </a:xfrm>
        </p:grpSpPr>
        <p:sp>
          <p:nvSpPr>
            <p:cNvPr id="42" name=""/>
            <p:cNvSpPr/>
            <p:nvPr/>
          </p:nvSpPr>
          <p:spPr>
            <a:xfrm>
              <a:off x="457200" y="228600"/>
              <a:ext cx="5105160" cy="6248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914400" y="685800"/>
              <a:ext cx="4190400" cy="4800600"/>
              <a:chOff x="914400" y="685800"/>
              <a:chExt cx="4190400" cy="48006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914400" y="685800"/>
                <a:ext cx="304560" cy="4800600"/>
                <a:chOff x="914400" y="685800"/>
                <a:chExt cx="304560" cy="48006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06668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"/>
                <p:cNvGrpSpPr/>
                <p:nvPr/>
              </p:nvGrpSpPr>
              <p:grpSpPr>
                <a:xfrm>
                  <a:off x="914400" y="685800"/>
                  <a:ext cx="304560" cy="4800600"/>
                  <a:chOff x="914400" y="685800"/>
                  <a:chExt cx="304560" cy="480060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91440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91440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9144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91440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91440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91440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91440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91440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91440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9144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" name=""/>
              <p:cNvGrpSpPr/>
              <p:nvPr/>
            </p:nvGrpSpPr>
            <p:grpSpPr>
              <a:xfrm>
                <a:off x="3733560" y="685800"/>
                <a:ext cx="304560" cy="4800600"/>
                <a:chOff x="3733560" y="685800"/>
                <a:chExt cx="304560" cy="48006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88584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" name=""/>
                <p:cNvGrpSpPr/>
                <p:nvPr/>
              </p:nvGrpSpPr>
              <p:grpSpPr>
                <a:xfrm>
                  <a:off x="3733560" y="685800"/>
                  <a:ext cx="304560" cy="4800600"/>
                  <a:chOff x="3733560" y="685800"/>
                  <a:chExt cx="304560" cy="480060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>
                    <a:off x="373356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373356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7335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73356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73356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73356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73356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373356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73356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7335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1523880" y="685800"/>
                <a:ext cx="304200" cy="4800600"/>
                <a:chOff x="1523880" y="685800"/>
                <a:chExt cx="304200" cy="48006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6758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1523880" y="685800"/>
                  <a:ext cx="304200" cy="4800600"/>
                  <a:chOff x="1523880" y="685800"/>
                  <a:chExt cx="304200" cy="480060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15238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5238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5238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5238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5238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5238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5238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5238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5238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" name=""/>
              <p:cNvGrpSpPr/>
              <p:nvPr/>
            </p:nvGrpSpPr>
            <p:grpSpPr>
              <a:xfrm>
                <a:off x="3200040" y="685800"/>
                <a:ext cx="304560" cy="4800600"/>
                <a:chOff x="3200040" y="685800"/>
                <a:chExt cx="304560" cy="48006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35232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3200040" y="685800"/>
                  <a:ext cx="304560" cy="4800600"/>
                  <a:chOff x="3200040" y="685800"/>
                  <a:chExt cx="304560" cy="480060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320004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20004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20004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20004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20004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20004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20004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20004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20004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0004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"/>
              <p:cNvGrpSpPr/>
              <p:nvPr/>
            </p:nvGrpSpPr>
            <p:grpSpPr>
              <a:xfrm>
                <a:off x="2666880" y="685800"/>
                <a:ext cx="304200" cy="4800600"/>
                <a:chOff x="2666880" y="685800"/>
                <a:chExt cx="304200" cy="4800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8188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666880" y="685800"/>
                  <a:ext cx="304200" cy="4800600"/>
                  <a:chOff x="2666880" y="685800"/>
                  <a:chExt cx="304200" cy="4800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6668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6668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26668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6668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6668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6668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26668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6668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26668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6668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2133360" y="685800"/>
                <a:ext cx="304560" cy="4800600"/>
                <a:chOff x="2133360" y="685800"/>
                <a:chExt cx="304560" cy="4800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28564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2133360" y="685800"/>
                  <a:ext cx="304560" cy="4800600"/>
                  <a:chOff x="2133360" y="685800"/>
                  <a:chExt cx="304560" cy="480060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13336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13336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1333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13336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13336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13336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13336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13336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13336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1333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4267080" y="685800"/>
                <a:ext cx="304200" cy="4800600"/>
                <a:chOff x="4267080" y="685800"/>
                <a:chExt cx="304200" cy="48006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4190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4267080" y="685800"/>
                  <a:ext cx="304200" cy="4800600"/>
                  <a:chOff x="4267080" y="685800"/>
                  <a:chExt cx="304200" cy="48006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42670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2670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2670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2670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42670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2670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2670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2670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2670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2670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"/>
              <p:cNvGrpSpPr/>
              <p:nvPr/>
            </p:nvGrpSpPr>
            <p:grpSpPr>
              <a:xfrm>
                <a:off x="4800240" y="685800"/>
                <a:ext cx="304560" cy="4800600"/>
                <a:chOff x="4800240" y="685800"/>
                <a:chExt cx="304560" cy="4800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95252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4800240" y="685800"/>
                  <a:ext cx="304560" cy="4800600"/>
                  <a:chOff x="4800240" y="685800"/>
                  <a:chExt cx="304560" cy="48006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80024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80024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0024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0024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80024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80024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80024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80024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80024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80024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" name=""/>
            <p:cNvGrpSpPr/>
            <p:nvPr/>
          </p:nvGrpSpPr>
          <p:grpSpPr>
            <a:xfrm>
              <a:off x="1066680" y="838080"/>
              <a:ext cx="3657240" cy="4800600"/>
              <a:chOff x="1066680" y="838080"/>
              <a:chExt cx="3657240" cy="48006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066680" y="838080"/>
                <a:ext cx="304560" cy="4800600"/>
                <a:chOff x="1066680" y="838080"/>
                <a:chExt cx="304560" cy="48006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21896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1066680" y="838080"/>
                  <a:ext cx="304560" cy="4800600"/>
                  <a:chOff x="1066680" y="838080"/>
                  <a:chExt cx="304560" cy="48006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106668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06668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06668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06668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06668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06668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06668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06668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06668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06668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3885840" y="838080"/>
                <a:ext cx="304560" cy="4800600"/>
                <a:chOff x="3885840" y="838080"/>
                <a:chExt cx="304560" cy="48006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03812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885840" y="838080"/>
                  <a:ext cx="304560" cy="4800600"/>
                  <a:chOff x="3885840" y="838080"/>
                  <a:chExt cx="304560" cy="4800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88584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88584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88584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88584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88584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88584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88584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88584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88584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88584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1676160" y="838080"/>
                <a:ext cx="304560" cy="4800600"/>
                <a:chOff x="1676160" y="838080"/>
                <a:chExt cx="304560" cy="48006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8284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1676160" y="838080"/>
                  <a:ext cx="304560" cy="4800600"/>
                  <a:chOff x="1676160" y="838080"/>
                  <a:chExt cx="304560" cy="48006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6761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6761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6761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6761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6761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6761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6761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6761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6761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6761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352680" y="838080"/>
                <a:ext cx="304560" cy="4800600"/>
                <a:chOff x="3352680" y="838080"/>
                <a:chExt cx="304560" cy="48006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50496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352680" y="838080"/>
                  <a:ext cx="304560" cy="4800600"/>
                  <a:chOff x="3352680" y="838080"/>
                  <a:chExt cx="304560" cy="48006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35268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35268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35268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35268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35268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35268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35268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35268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35268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35268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2819160" y="838080"/>
                <a:ext cx="304560" cy="4800600"/>
                <a:chOff x="2819160" y="838080"/>
                <a:chExt cx="304560" cy="48006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9714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2819160" y="838080"/>
                  <a:ext cx="304560" cy="4800600"/>
                  <a:chOff x="2819160" y="838080"/>
                  <a:chExt cx="304560" cy="48006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28191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8191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8191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8191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8191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8191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8191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8191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8191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8191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2285640" y="838080"/>
                <a:ext cx="304560" cy="4800600"/>
                <a:chOff x="2285640" y="838080"/>
                <a:chExt cx="304560" cy="48006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43792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2285640" y="838080"/>
                  <a:ext cx="304560" cy="4800600"/>
                  <a:chOff x="2285640" y="838080"/>
                  <a:chExt cx="304560" cy="48006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228564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28564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28564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28564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28564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28564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28564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28564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28564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28564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4419360" y="838080"/>
                <a:ext cx="304560" cy="4800600"/>
                <a:chOff x="4419360" y="838080"/>
                <a:chExt cx="304560" cy="48006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5716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4419360" y="838080"/>
                  <a:ext cx="304560" cy="4800600"/>
                  <a:chOff x="4419360" y="838080"/>
                  <a:chExt cx="304560" cy="48006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44193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4193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4193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4193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4193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4193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193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4193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4193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4193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0" name=""/>
            <p:cNvGrpSpPr/>
            <p:nvPr/>
          </p:nvGrpSpPr>
          <p:grpSpPr>
            <a:xfrm>
              <a:off x="1218960" y="990360"/>
              <a:ext cx="3657240" cy="4800600"/>
              <a:chOff x="1218960" y="990360"/>
              <a:chExt cx="3657240" cy="480060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218960" y="990360"/>
                <a:ext cx="304560" cy="4800600"/>
                <a:chOff x="1218960" y="990360"/>
                <a:chExt cx="304560" cy="48006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37124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218960" y="990360"/>
                  <a:ext cx="304560" cy="4800600"/>
                  <a:chOff x="1218960" y="990360"/>
                  <a:chExt cx="304560" cy="48006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21896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21896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21896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21896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21896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21896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21896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21896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21896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21896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4038120" y="990360"/>
                <a:ext cx="304560" cy="4800600"/>
                <a:chOff x="4038120" y="990360"/>
                <a:chExt cx="304560" cy="48006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19040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4038120" y="990360"/>
                  <a:ext cx="304560" cy="4800600"/>
                  <a:chOff x="4038120" y="990360"/>
                  <a:chExt cx="304560" cy="48006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403812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03812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03812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03812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03812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03812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03812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03812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03812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03812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1828440" y="990360"/>
                <a:ext cx="304560" cy="4800600"/>
                <a:chOff x="1828440" y="990360"/>
                <a:chExt cx="304560" cy="48006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9807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1828440" y="990360"/>
                  <a:ext cx="304560" cy="4800600"/>
                  <a:chOff x="1828440" y="990360"/>
                  <a:chExt cx="304560" cy="48006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18284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8284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8284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8284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8284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8284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8284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8284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8284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8284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3504960" y="990360"/>
                <a:ext cx="304560" cy="4800600"/>
                <a:chOff x="3504960" y="990360"/>
                <a:chExt cx="304560" cy="48006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65724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3504960" y="990360"/>
                  <a:ext cx="304560" cy="4800600"/>
                  <a:chOff x="3504960" y="990360"/>
                  <a:chExt cx="304560" cy="48006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350496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50496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50496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0496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50496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50496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50496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50496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50496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0496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2971440" y="990360"/>
                <a:ext cx="304560" cy="4800600"/>
                <a:chOff x="2971440" y="990360"/>
                <a:chExt cx="304560" cy="4800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1237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2971440" y="990360"/>
                  <a:ext cx="304560" cy="4800600"/>
                  <a:chOff x="2971440" y="990360"/>
                  <a:chExt cx="304560" cy="48006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9714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9714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9714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9714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9714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9714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9714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9714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9714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9714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2437920" y="990360"/>
                <a:ext cx="304560" cy="4800600"/>
                <a:chOff x="2437920" y="990360"/>
                <a:chExt cx="304560" cy="48006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59020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2437920" y="990360"/>
                  <a:ext cx="304560" cy="4800600"/>
                  <a:chOff x="2437920" y="990360"/>
                  <a:chExt cx="304560" cy="48006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243792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43792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43792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43792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43792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43792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43792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43792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43792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43792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"/>
              <p:cNvGrpSpPr/>
              <p:nvPr/>
            </p:nvGrpSpPr>
            <p:grpSpPr>
              <a:xfrm>
                <a:off x="4571640" y="990360"/>
                <a:ext cx="304560" cy="4800600"/>
                <a:chOff x="4571640" y="990360"/>
                <a:chExt cx="304560" cy="4800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7239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4571640" y="990360"/>
                  <a:ext cx="304560" cy="4800600"/>
                  <a:chOff x="4571640" y="990360"/>
                  <a:chExt cx="304560" cy="4800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45716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5716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5716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5716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5716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5716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5716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5716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5716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5716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2" name=""/>
            <p:cNvGrpSpPr/>
            <p:nvPr/>
          </p:nvGrpSpPr>
          <p:grpSpPr>
            <a:xfrm>
              <a:off x="1371600" y="1143000"/>
              <a:ext cx="3657240" cy="4800600"/>
              <a:chOff x="1371600" y="1143000"/>
              <a:chExt cx="3657240" cy="480060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1371600" y="1143000"/>
                <a:ext cx="304560" cy="4800600"/>
                <a:chOff x="1371600" y="1143000"/>
                <a:chExt cx="304560" cy="4800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52388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1371600" y="1143000"/>
                  <a:ext cx="304560" cy="4800600"/>
                  <a:chOff x="1371600" y="1143000"/>
                  <a:chExt cx="304560" cy="4800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13716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3716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37160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37160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37160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37160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37160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37160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137160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137160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190760" y="1143000"/>
                <a:ext cx="304560" cy="4800600"/>
                <a:chOff x="4190760" y="1143000"/>
                <a:chExt cx="304560" cy="48006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34304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4190760" y="1143000"/>
                  <a:ext cx="304560" cy="4800600"/>
                  <a:chOff x="4190760" y="1143000"/>
                  <a:chExt cx="304560" cy="48006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1907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1907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19076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19076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19076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19076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19076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19076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419076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19076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9" name=""/>
              <p:cNvGrpSpPr/>
              <p:nvPr/>
            </p:nvGrpSpPr>
            <p:grpSpPr>
              <a:xfrm>
                <a:off x="1981080" y="1143000"/>
                <a:ext cx="304560" cy="4800600"/>
                <a:chOff x="1981080" y="1143000"/>
                <a:chExt cx="304560" cy="4800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1333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1981080" y="1143000"/>
                  <a:ext cx="304560" cy="4800600"/>
                  <a:chOff x="1981080" y="1143000"/>
                  <a:chExt cx="304560" cy="48006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19810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9810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9810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9810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9810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9810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9810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9810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810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9810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"/>
              <p:cNvGrpSpPr/>
              <p:nvPr/>
            </p:nvGrpSpPr>
            <p:grpSpPr>
              <a:xfrm>
                <a:off x="3657600" y="1143000"/>
                <a:ext cx="304560" cy="4800600"/>
                <a:chOff x="3657600" y="1143000"/>
                <a:chExt cx="304560" cy="4800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80988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3657600" y="1143000"/>
                  <a:ext cx="304560" cy="4800600"/>
                  <a:chOff x="3657600" y="1143000"/>
                  <a:chExt cx="304560" cy="48006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6576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6576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65760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65760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65760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65760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65760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65760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65760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5760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5" name=""/>
              <p:cNvGrpSpPr/>
              <p:nvPr/>
            </p:nvGrpSpPr>
            <p:grpSpPr>
              <a:xfrm>
                <a:off x="3124080" y="1143000"/>
                <a:ext cx="304560" cy="4800600"/>
                <a:chOff x="3124080" y="1143000"/>
                <a:chExt cx="304560" cy="48006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2763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3124080" y="1143000"/>
                  <a:ext cx="304560" cy="4800600"/>
                  <a:chOff x="3124080" y="1143000"/>
                  <a:chExt cx="304560" cy="480060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31240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1240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1240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1240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1240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1240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1240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1240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1240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1240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8" name=""/>
              <p:cNvGrpSpPr/>
              <p:nvPr/>
            </p:nvGrpSpPr>
            <p:grpSpPr>
              <a:xfrm>
                <a:off x="2590560" y="1143000"/>
                <a:ext cx="304560" cy="4800600"/>
                <a:chOff x="2590560" y="1143000"/>
                <a:chExt cx="304560" cy="48006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74284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2590560" y="1143000"/>
                  <a:ext cx="304560" cy="4800600"/>
                  <a:chOff x="2590560" y="1143000"/>
                  <a:chExt cx="304560" cy="48006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25905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5905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59056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59056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59056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59056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59056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59056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59056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59056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4724280" y="1143000"/>
                <a:ext cx="304560" cy="4800600"/>
                <a:chOff x="4724280" y="1143000"/>
                <a:chExt cx="304560" cy="48006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8765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724280" y="1143000"/>
                  <a:ext cx="304560" cy="4800600"/>
                  <a:chOff x="4724280" y="1143000"/>
                  <a:chExt cx="304560" cy="48006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7242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7242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7242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242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242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7242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7242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7242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7242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242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4" name=""/>
          <p:cNvGrpSpPr/>
          <p:nvPr/>
        </p:nvGrpSpPr>
        <p:grpSpPr>
          <a:xfrm>
            <a:off x="6477120" y="762120"/>
            <a:ext cx="1981080" cy="1981080"/>
            <a:chOff x="6477120" y="762120"/>
            <a:chExt cx="1981080" cy="1981080"/>
          </a:xfrm>
        </p:grpSpPr>
        <p:sp>
          <p:nvSpPr>
            <p:cNvPr id="425" name=""/>
            <p:cNvSpPr/>
            <p:nvPr/>
          </p:nvSpPr>
          <p:spPr>
            <a:xfrm>
              <a:off x="6553080" y="762120"/>
              <a:ext cx="1828800" cy="1981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3800" y="190512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190512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34320" y="22096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5200" y="22096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6080" y="2209680"/>
              <a:ext cx="38124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24680" y="190512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6080" y="161460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1520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7732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712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19810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08840" y="130968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2796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4708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8988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1848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7568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5656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715000" y="3505320"/>
            <a:ext cx="3429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reex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sibility to deploy in volu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omnidirectional “pixellised” “disco” like PMT’s? Fill e.g a benthosphere with 10-20 smaller diameter PM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volume vs surface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efficienc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e adds a reflective material in the internal surface event better effici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onsider spherical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: N detectors of A cross-sectional area, deployed in a spherical surface (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 sphere radius (32,5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L=attenuation length (8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181480" y="3733920"/>
                <a:ext cx="7621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057400" y="5334120"/>
                <a:ext cx="47242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L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L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one calculate the mean atten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895320" y="1752480"/>
                <a:ext cx="720108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z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838080" y="3505320"/>
            <a:ext cx="266724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3720" y="3505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33720" y="38862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133720" y="38095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3657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710160" y="3301920"/>
                <a:ext cx="4681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4191120" y="4572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spherical emission from a point z, along the z-axis without loss of generality, and integrate in z and theta (phi trivi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me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has a cell-volume around each PMT: v=V/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erefore has mean efficien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integral is the mean atten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evious result, it gives (i am uncertain whether it is correct, i do not understand it fully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04920" y="2590920"/>
                <a:ext cx="845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r>
                      <m:t xml:space="preserve">A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p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p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A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84160" y="4419720"/>
                <a:ext cx="6689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629400" y="5562720"/>
                <a:ext cx="1828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of efficiencies volume vs su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case (R/L=0.4)  Q=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assume perfectly reflecting walls, (R towards infinity in the volume case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077840" y="2286000"/>
                <a:ext cx="714240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932120" y="5486400"/>
                <a:ext cx="2894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5334120" y="57150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!!!!!!!!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reason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econstruction vs 2D projection (good timing hel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s increase efficiency or in case one does not want this, a simple liner is sufficient: no tank needed. The cavern walls=tank wa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disco” structure replies to Larry S. argument that surface deployment gives more PM’s h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bove all, increased efficiency permits reduction of the number of PMTs with a factor at least 3.6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y with KM3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omebody MonteCarlo all th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9:31:22Z</dcterms:created>
  <dc:creator>S. Katsanevas</dc:creator>
  <dc:description/>
  <dc:language>en-US</dc:language>
  <cp:lastModifiedBy>J.E Campagne</cp:lastModifiedBy>
  <dcterms:modified xsi:type="dcterms:W3CDTF">2006-06-19T08:05:13Z</dcterms:modified>
  <cp:revision>7</cp:revision>
  <dc:subject/>
  <dc:title>PowerPoint Presentation</dc:title>
</cp:coreProperties>
</file>